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1800" cy="124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41C19-DC91-434A-B920-2C3E8FF674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1E617-51C7-4F43-91C5-3CE38438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B68D1-B68F-43E9-8095-05FEA9E8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F1388-6167-4792-A942-E8B0029D76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4B3B8-956F-4232-A2DF-9952445A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BDF07-7C74-4D43-8EEA-2D9D5F8240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E03A88-DC87-4D27-8F2F-FD5EB007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B5A04-AE96-4F1A-849B-297BA023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C6EDE-2F49-408D-B465-DE960D1B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20BBF9-F81C-4AAC-86F8-CF5A7AE17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6ADC4-476D-4645-A169-4C7EF35B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39AE8-8249-4F44-8EBB-A6A6CCBE4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2A665-2429-4789-BC53-31E97B8D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F4AD3-1CE0-41F2-AA0A-42676BFD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A2316-930A-47E3-8930-0686F7C6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CDEF9F-9360-4AF1-B5F6-82C3232A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B1FA4-183A-48C5-B03F-34968D64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1F599-0F8D-4A26-AB42-48E5572D17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F0ED0-95E2-4A2E-A7DF-B087CC0E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9F8D0-674A-498D-A167-D4E5AE170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9FC70-8CE1-4D96-9932-C4028F17D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D0D77-C158-4FB0-8005-7F96B72C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F7C94-06FF-4880-977D-0F1CD2DC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529F7-FE03-4533-9613-C83C4779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337440"/>
            <a:ext cx="9144000" cy="520560"/>
          </a:xfrm>
          <a:prstGeom prst="rect">
            <a:avLst/>
          </a:prstGeom>
          <a:gradFill rotWithShape="0">
            <a:gsLst>
              <a:gs pos="0">
                <a:srgbClr val="dfebdf"/>
              </a:gs>
              <a:gs pos="100000">
                <a:srgbClr val="a0bba0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00800" y="6461280"/>
            <a:ext cx="19130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3/25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4049640" y="6264360"/>
            <a:ext cx="2351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321760" y="6453360"/>
            <a:ext cx="35712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38CD62-7B6F-4E94-B0B9-93162F8A12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2"/>
          <a:stretch/>
        </p:blipFill>
        <p:spPr>
          <a:xfrm>
            <a:off x="8772480" y="6389640"/>
            <a:ext cx="300240" cy="4348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8" descr=""/>
          <p:cNvPicPr/>
          <p:nvPr/>
        </p:nvPicPr>
        <p:blipFill>
          <a:blip r:embed="rId3"/>
          <a:stretch/>
        </p:blipFill>
        <p:spPr>
          <a:xfrm>
            <a:off x="-6480" y="6327720"/>
            <a:ext cx="9156960" cy="3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"/>
          <p:cNvSpPr/>
          <p:nvPr/>
        </p:nvSpPr>
        <p:spPr>
          <a:xfrm>
            <a:off x="0" y="4664160"/>
            <a:ext cx="9150480" cy="1440"/>
          </a:xfrm>
          <a:prstGeom prst="rtTriangle">
            <a:avLst/>
          </a:prstGeom>
          <a:gradFill rotWithShape="0">
            <a:gsLst>
              <a:gs pos="0">
                <a:srgbClr val="005200"/>
              </a:gs>
              <a:gs pos="50000">
                <a:srgbClr val="4f8b4f"/>
              </a:gs>
              <a:gs pos="100000">
                <a:srgbClr val="005200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080" bIns="-4608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817560"/>
            <a:ext cx="9144000" cy="1057320"/>
          </a:xfrm>
          <a:prstGeom prst="rect">
            <a:avLst/>
          </a:prstGeom>
          <a:gradFill rotWithShape="0">
            <a:gsLst>
              <a:gs pos="0">
                <a:srgbClr val="dfebdf"/>
              </a:gs>
              <a:gs pos="100000">
                <a:srgbClr val="a0bba0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0" y="804960"/>
            <a:ext cx="9156600" cy="36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tretch/>
        </p:blipFill>
        <p:spPr>
          <a:xfrm>
            <a:off x="5780160" y="982800"/>
            <a:ext cx="635040" cy="7617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6397560" y="1092240"/>
            <a:ext cx="251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4d00"/>
                </a:solidFill>
                <a:latin typeface="Lucida Grande"/>
              </a:rPr>
              <a:t>Wikispace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0" y="6337440"/>
            <a:ext cx="9144000" cy="520560"/>
          </a:xfrm>
          <a:prstGeom prst="rect">
            <a:avLst/>
          </a:prstGeom>
          <a:gradFill rotWithShape="0">
            <a:gsLst>
              <a:gs pos="0">
                <a:srgbClr val="dfebdf"/>
              </a:gs>
              <a:gs pos="100000">
                <a:srgbClr val="a0bba0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8772480" y="6389640"/>
            <a:ext cx="300240" cy="434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-6480" y="6327720"/>
            <a:ext cx="9156960" cy="36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3"/>
          </p:nvPr>
        </p:nvSpPr>
        <p:spPr>
          <a:xfrm>
            <a:off x="6400800" y="6470280"/>
            <a:ext cx="19130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03/25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49640" y="6262560"/>
            <a:ext cx="2351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4"/>
          </p:nvPr>
        </p:nvSpPr>
        <p:spPr>
          <a:xfrm>
            <a:off x="8321760" y="6468840"/>
            <a:ext cx="357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EAE9FE-F72B-4665-B9EC-7A9DB301E2E5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d773c"/>
                </a:solidFill>
                <a:latin typeface="Arial"/>
                <a:ea typeface="Arial"/>
              </a:rPr>
              <a:t>Welcom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  <a:ea typeface="Arial"/>
              </a:rPr>
              <a:t>Wikispaces in K–12 Education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[date and time]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Welcome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Read-only Web v. Read/Write Web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Wikis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Getting Started with Wikispaces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Wrap-up and Q&amp;A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6469560"/>
            <a:ext cx="8686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404040"/>
                </a:solidFill>
                <a:latin typeface="Arial"/>
                <a:ea typeface="Arial"/>
              </a:rPr>
              <a:t>Originally developed by Mark Wagner, Ph.D., President &amp; CEO, EdTechTeam, Inc. </a:t>
            </a:r>
            <a:endParaRPr b="0" lang="en-US" sz="11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1: Evaluate Educational Wiki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Locate an educational wiki relevant to your work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valuate the wiki based on the following criteria: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a basic description of this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o is the intended audience for the wiki and what would they get out of i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o are the intended contributors for the wiki and what would they contribute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4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How does this wiki accomplish something that only a wiki can accomplish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5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How could you adapt this a model for your own work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ost your evaluations on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iscussion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tab of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ctivity 1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page in the presentation wiki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ime permitting, explore your classmates’ evaluations. Reply to three of their posts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2: Edit a Wiki Page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o to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ctivity 2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age on the presentation wiki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ake turns with other participants adding to and editing the page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lay with some of the tools in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ditor toolbar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3: Create Your Own Wiki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http://www.wikispaces.com/site/for/teachers/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an Account (if you haven't already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a Wiki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dit This Pag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iscuss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History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Notification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a New Pag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dit Naviga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Manage Wiki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My Accoun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more wikis!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Benefit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ngagement and motiva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ntext-embedded learn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quiry-driven learn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llaborative learn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Reflection and metacogni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1</a:t>
            </a:r>
            <a:r>
              <a:rPr b="0" lang="en-US" sz="2000" spc="-1" strike="noStrike" baseline="30000">
                <a:solidFill>
                  <a:srgbClr val="404040"/>
                </a:solidFill>
                <a:latin typeface="Arial"/>
                <a:ea typeface="Arial"/>
              </a:rPr>
              <a:t>st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-century skill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Concern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formation literacy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appropriate conten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appropriate shar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hreats and cyber-bully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tellectual property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Fraud and identity thef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Stalkers and predator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Lack of understand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 for This Workshop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http://</a:t>
            </a:r>
            <a:r>
              <a:rPr b="0" lang="en-US" sz="4000" spc="-1" strike="noStrike">
                <a:solidFill>
                  <a:srgbClr val="1d773c"/>
                </a:solidFill>
                <a:latin typeface="Arial"/>
                <a:ea typeface="Arial"/>
              </a:rPr>
              <a:t>somewiki</a:t>
            </a: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.wikispaces.com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Reflection Activity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the most important thing you learned today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are your next steps for using wikis in your work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do you want to learn more abou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Q&amp;A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Go ahead, ask me anything.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4: Share Your Own Wiki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ost your answers on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iscussion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tab of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ctivity 4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page in the presentation wiki: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is the URL of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is a basic description of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o is the intended audience for the wiki and what should they get out of i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4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o are the intended contributors for the wiki and what should they contribute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5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multi-media have you integrated into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6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other tools have you integrated into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7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is one obstacle or issue you anticipated and how have you addressed i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8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future plans do you have for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fter the workshop, explore your classmates' evaluations. Reply to three of their posts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 for This Workshop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http://</a:t>
            </a:r>
            <a:r>
              <a:rPr b="0" lang="en-US" sz="4000" spc="-1" strike="noStrike">
                <a:solidFill>
                  <a:srgbClr val="1d773c"/>
                </a:solidFill>
                <a:latin typeface="Arial"/>
                <a:ea typeface="Arial"/>
              </a:rPr>
              <a:t>somewiki</a:t>
            </a: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.wikispaces.com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elcome Activity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the read/write web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a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do these things mean for you and your students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4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y are we here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Read-only Web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owerful resource for educators and students, but…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formation moves from publishers to consumer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formation cannot be edited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ne-way Web (Web 1.0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Read/Write Web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t is now as easy to create as it is to consum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nyone can publish, share, and change information onlin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wo-way Web (Web 2.0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his is changing our world!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KaiTi"/>
              </a:rPr>
              <a:t>Wiki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 wiki is a website that anyone can edit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i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f you can use a word processor, you can use a wiki!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Visitors can see a history of changes and revert to earlier versions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Visitors can discuss the page in a threaded forum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pedia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nline encyclopedia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llaboratively authored and edited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ver 1 million users worldwid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ver 1 million articles in English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reat resource, but…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Use with cau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Educational Wiki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llaboratively authored class tex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Writing projec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roup projec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Sharing resource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rade level team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Subject area team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rofessional developmen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rofessional Learning Communities (PLC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Portfolio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lubs, PTAs, and even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Mapping of concepts, brainstorm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resentation tool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 for This Workshop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5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http://</a:t>
            </a:r>
            <a:r>
              <a:rPr b="0" lang="en-US" sz="4000" spc="-1" strike="noStrike">
                <a:solidFill>
                  <a:srgbClr val="1d773c"/>
                </a:solidFill>
                <a:latin typeface="Arial"/>
                <a:ea typeface="Arial"/>
              </a:rPr>
              <a:t>somewiki</a:t>
            </a: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.wikispaces.com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8:13:11Z</dcterms:created>
  <dc:creator>Adam Frey</dc:creator>
  <dc:description/>
  <dc:language>en-US</dc:language>
  <cp:lastModifiedBy>Carole</cp:lastModifiedBy>
  <dcterms:modified xsi:type="dcterms:W3CDTF">2010-07-22T18:53:45Z</dcterms:modified>
  <cp:revision>128</cp:revision>
  <dc:subject/>
  <dc:title>Welcome</dc:title>
</cp:coreProperties>
</file>